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7F01-FEEB-4F18-8EB8-4297BB388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B042-A8E7-40C3-89AE-CE10DF501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6C2-95EC-4915-A1A9-B3312257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AFD-C0CD-42C8-B140-6686EB91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719-DE20-4547-9066-49B46B51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BA13-392C-43A2-9335-B81CF8C8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CB1-733A-4C42-B78F-88B88FEC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064-8167-46C8-8299-90E06310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6B3-B95F-4E20-8137-1FF55DA1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773-4800-45C3-935C-6CEAAF87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570-97B5-4607-A5B1-D449041B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670-EBA5-4620-A317-59B5C830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D44-1E55-4406-BB71-F414952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DBD-C0C4-4EDD-A7D3-F09FDEEC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BDF4-D2CC-4BBE-95AB-5D83691FC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lebzawsh@unhcr.org" TargetMode="External"/><Relationship Id="rId2" Type="http://schemas.openxmlformats.org/officeDocument/2006/relationships/hyperlink" Target="mailto:lebzashl@unhcr.org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docs.google.com/spreadsheets/d/1jWADhzoHmKMT4F1hC8UyDOQbEIgCDzyFkszlf6amUGE/edit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Re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to refer 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we ref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o ref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to ref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nding Refer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 Unit sends a weekly e-mail including the pending refer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2590920"/>
          <a:ext cx="7391520" cy="3128760"/>
        </p:xfrm>
        <a:graphic>
          <a:graphicData uri="http://schemas.openxmlformats.org/drawingml/2006/table">
            <a:tbl>
              <a:tblPr/>
              <a:tblGrid>
                <a:gridCol w="1246320"/>
                <a:gridCol w="969840"/>
                <a:gridCol w="870120"/>
                <a:gridCol w="888840"/>
                <a:gridCol w="1662120"/>
                <a:gridCol w="1754280"/>
              </a:tblGrid>
              <a:tr h="210960"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nding WASH Referrals in 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pending Referrals 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unclosed referrals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pending days (0-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pending days (31-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pending days (more than 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s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rcy Cor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XF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V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1"/>
          <p:cNvSpPr/>
          <p:nvPr/>
        </p:nvSpPr>
        <p:spPr>
          <a:xfrm>
            <a:off x="2416320" y="6016320"/>
            <a:ext cx="431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referrals which are still blank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ssistance provid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colu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**referrals which are still blank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date clos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colu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o to refer t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AMP (interagency mapping platform) is the platform where we could find all sort of information concerning informal settl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AM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312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ion (GPS)/Cadast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house units/individu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ners assisting the s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informant Name an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/Shelter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90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SH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1" descr=""/>
          <p:cNvPicPr/>
          <p:nvPr/>
        </p:nvPicPr>
        <p:blipFill>
          <a:blip r:embed="rId1"/>
          <a:stretch/>
        </p:blipFill>
        <p:spPr>
          <a:xfrm>
            <a:off x="341280" y="2011320"/>
            <a:ext cx="8461440" cy="3737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:\SHELTER &amp; WASH\SHELTER\2. Data-Analysis &amp; Mapping\3. Maps\Shelter.jpg"/>
          <p:cNvPicPr/>
          <p:nvPr/>
        </p:nvPicPr>
        <p:blipFill>
          <a:blip r:embed="rId1"/>
          <a:stretch/>
        </p:blipFill>
        <p:spPr>
          <a:xfrm>
            <a:off x="1030320" y="133200"/>
            <a:ext cx="7089840" cy="64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y do we ref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12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revent a serious out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surveillance tool to prevent possible outbreaks of WASH related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life of refug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hold partners accountable in their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en to ref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DIATEL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uld stop something small becoming something big we can’t conta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lications of not refer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65040" y="321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pected disease out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 you identify something wro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SH/Shelter Referral Mechan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to Ref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d an e-mail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ASH: lebzawsh@unhcr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helter: lebzashl@unhcr.or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5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should have the following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tion/p-code/GPS coordin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informant/Shaweesh name &amp;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ef description of the case/issue refer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re’s a suspected outbreak, f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 of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oogle Do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2971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HCR WASH/shelter Units feed the info to Google docs. The link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docs.google.com/spreadsheets/d/1jWADhzoHmKMT4F1hC8UyDOQbEIgCDzyFkszlf6amUGE/edit#gid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" descr=""/>
          <p:cNvPicPr/>
          <p:nvPr/>
        </p:nvPicPr>
        <p:blipFill>
          <a:blip r:embed="rId5"/>
          <a:stretch/>
        </p:blipFill>
        <p:spPr>
          <a:xfrm>
            <a:off x="7169040" y="415800"/>
            <a:ext cx="129384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4"/>
          <a:stretch/>
        </p:blipFill>
        <p:spPr>
          <a:xfrm>
            <a:off x="7169040" y="415800"/>
            <a:ext cx="1293840" cy="1008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" descr=""/>
          <p:cNvPicPr/>
          <p:nvPr/>
        </p:nvPicPr>
        <p:blipFill>
          <a:blip r:embed="rId5"/>
          <a:stretch/>
        </p:blipFill>
        <p:spPr>
          <a:xfrm>
            <a:off x="90360" y="1905120"/>
            <a:ext cx="8731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C [carbon copy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HCR WASH/Shelter Unit will copy the partner and the donor who are responsible to respond in the area/site/cadast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alth related 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HCR Health Unit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H focal per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be also copi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llow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/Shelter Unit will follow up until that referral is completed and the case is clo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4038480" y="415800"/>
            <a:ext cx="835200" cy="8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3092400" y="423720"/>
            <a:ext cx="946080" cy="820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0" y="436680"/>
            <a:ext cx="31068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5T12:22:45Z</dcterms:created>
  <dc:creator>UNHCRuser</dc:creator>
  <dc:description/>
  <dc:language>en-US</dc:language>
  <cp:lastModifiedBy>UNHCRuser</cp:lastModifiedBy>
  <dcterms:modified xsi:type="dcterms:W3CDTF">2016-06-03T09:44:36Z</dcterms:modified>
  <cp:revision>41</cp:revision>
  <dc:subject/>
  <dc:title>WASH/Shelter Referral Presentation</dc:title>
</cp:coreProperties>
</file>